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7.png" ContentType="image/png"/>
  <Override PartName="/ppt/media/image26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134A-FE06-4960-94D9-F4C9A059B3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891B-C25C-40A4-A33E-49A282FEFB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6674-7995-401E-9CCD-B4A82D3800C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7757-4931-4AEB-A7C8-0A24560C7B0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69FE-6AD7-4724-992D-B8A7441CE9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0C2-3F31-4EA3-B9FE-44D98A43363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5911-3EA4-4262-8C52-5FA51C9C27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CBF-4204-45C5-A5E7-802F2BEE39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BC45-951E-4CB4-B0B2-8360C7980E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A1C-7755-4126-AB62-C39D942C97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DD9E-BFFD-4B45-863E-014071AE1D1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02A6-EE6A-4DDE-8018-EC1CED82A7F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F82B-9309-4D0D-ACEB-FCE0E45D1C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B9AB-0D29-4747-AE8A-18D0CD90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139-3448-4AE1-B2B2-F4784EC8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EE1C-A6C8-41DE-BC3C-A723BFD4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BA8-49A8-4551-91D9-8D56DBA3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A55E-D544-434C-ACED-A234A983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09CA-064A-40E8-BD86-8D9CD63F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8388-A24A-4B79-B2E7-4814FEE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2B08-4A43-4CB3-88EC-0D6CCDEF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AD44-8A2F-4982-8B66-C889AAB7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1ACA-A378-484F-AB57-AC857912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9E3A-6AC4-463C-AEB0-E775794B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C75-8CAC-483D-871B-83BB1BAB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81C5-B11A-43C9-98F9-C1F282D2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6586-495D-4054-BFAF-889DA2BB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676B-A4FD-4580-9D9B-286F7400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0BA7-D22D-4117-913E-FAB5B401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ABBF-5AE8-4A36-B5BD-505124F29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AF665-064A-4D6F-AE61-CD4141D7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1F448-3895-4271-A568-228366A3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3991-0B70-44C6-97A0-72D1375A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B90CC-4FA4-4FDC-9E05-4C501813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FEF87-1671-4209-8E2D-36C0B297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660-348A-41DA-95F9-5FEA32FC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BE125-F060-48E7-82B7-96AA9701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7BA8A-6D8C-47F5-872F-95376A76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FBF95-8CAE-4D8B-801D-93AC1192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0865-C728-4CEB-B1ED-74D13C92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C40B-EEA1-455D-B258-16744EE9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D666B-B57C-440D-87BB-E109F01B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8C3C9-F80B-4CA0-8351-D55902EA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C05E-95A0-41D0-B782-1B6D98C0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682-C0BD-4D40-93D9-5FEA8411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DDE-2279-4456-A1D1-503BE22D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1AC-DF1C-4F5A-A42C-C4A66B66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E48-36AC-4CED-8C93-C6CE58BB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E01-2669-4BDB-A521-2B7778B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DCC2-F4FC-4636-8263-8A3C84CE4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520D-3FE4-4286-BC00-7687BD083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3693-CA4D-4C70-AF65-04910216C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bs.org/wgbh/evolution/library/10/4/l_104_03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Evolu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Picture 7" descr="nc_Evolution_080103_ms"/>
          <p:cNvPicPr/>
          <p:nvPr/>
        </p:nvPicPr>
        <p:blipFill>
          <a:blip r:embed="rId1"/>
          <a:stretch/>
        </p:blipFill>
        <p:spPr>
          <a:xfrm>
            <a:off x="1523880" y="1828800"/>
            <a:ext cx="579132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Where Do Variations Come From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Genetic variation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can only be passed on if they occur i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gamete (sperm/egg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cel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urces of vari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Mut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ndom change in DNA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me are “good” and can b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passed 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exual Reprodu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ossing over of chromosomes (DNA) increases variety in offspr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O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60" name="Picture 5" descr="misconceptions_beave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urvival of the Fitte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individuals who have certain variations will be able to survive if environment chang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Ex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sease and resistance/i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5" descr="i-am-legend-poster_001"/>
          <p:cNvPicPr/>
          <p:nvPr/>
        </p:nvPicPr>
        <p:blipFill>
          <a:blip r:embed="rId1"/>
          <a:stretch/>
        </p:blipFill>
        <p:spPr>
          <a:xfrm>
            <a:off x="5257800" y="2438280"/>
            <a:ext cx="2986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5.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Speci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those individuals that survived to reproduce, may develop into a new spec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does it happ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eproductive isol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a population may become separated by a geographical barri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Ex:  River, mountain range, earthquake,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18" descr="409139aa"/>
          <p:cNvPicPr/>
          <p:nvPr/>
        </p:nvPicPr>
        <p:blipFill>
          <a:blip r:embed="rId1"/>
          <a:stretch/>
        </p:blipFill>
        <p:spPr>
          <a:xfrm>
            <a:off x="0" y="365760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shuswaplake"/>
          <p:cNvPicPr/>
          <p:nvPr/>
        </p:nvPicPr>
        <p:blipFill>
          <a:blip r:embed="rId2"/>
          <a:stretch/>
        </p:blipFill>
        <p:spPr>
          <a:xfrm>
            <a:off x="2362320" y="3462480"/>
            <a:ext cx="6781680" cy="333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22"/>
          <p:cNvGraphicFramePr/>
          <p:nvPr/>
        </p:nvGraphicFramePr>
        <p:xfrm>
          <a:off x="2438280" y="4572000"/>
          <a:ext cx="137160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572000"/>
                    <a:ext cx="137160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23"/>
          <p:cNvGraphicFramePr/>
          <p:nvPr/>
        </p:nvGraphicFramePr>
        <p:xfrm>
          <a:off x="8089920" y="4343400"/>
          <a:ext cx="1054080" cy="12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89920" y="4343400"/>
                    <a:ext cx="105408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671 0.37864 C -0.45452 0.44868 -0.36233 0.51873 -0.27119 0.45562 C -0.18004 0.39251 -0.04549 0.07582 1.66667E-006 -5.77901E-007 E">
                                      <p:cBhvr>
                                        <p:cTn id="217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&#13;Picture 1.png                                                  000A2B16_x0006_bunsen                         C167EDBD:"/>
          <p:cNvPicPr/>
          <p:nvPr/>
        </p:nvPicPr>
        <p:blipFill>
          <a:blip r:embed="rId1"/>
          <a:stretch/>
        </p:blipFill>
        <p:spPr>
          <a:xfrm>
            <a:off x="609480" y="609480"/>
            <a:ext cx="85345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new species of finches develop fro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sol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fferences in beak sizes/shap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result from different environments (food source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finch_2"/>
          <p:cNvPicPr/>
          <p:nvPr/>
        </p:nvPicPr>
        <p:blipFill>
          <a:blip r:embed="rId1"/>
          <a:stretch/>
        </p:blipFill>
        <p:spPr>
          <a:xfrm>
            <a:off x="0" y="2197080"/>
            <a:ext cx="73915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524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mmary of Darwin’s Theo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Organisms differ; variation is inher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Organisms produce more offspring than surv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. Organisms compete for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Organisms with advantages survive to pass those advantages to their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Species alive today are descended with modifications from common ancest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Examples of Natural Se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Peppered Moth Ev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in moth color from white to black due to change in their environment from white to blac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ck moth color =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“favorable” mu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8" descr="kettlewell-peppered-moth"/>
          <p:cNvPicPr/>
          <p:nvPr/>
        </p:nvPicPr>
        <p:blipFill>
          <a:blip r:embed="rId1"/>
          <a:stretch/>
        </p:blipFill>
        <p:spPr>
          <a:xfrm>
            <a:off x="3124080" y="3809880"/>
            <a:ext cx="6019920" cy="3048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pepperedmothslichen"/>
          <p:cNvPicPr/>
          <p:nvPr/>
        </p:nvPicPr>
        <p:blipFill>
          <a:blip r:embed="rId2"/>
          <a:stretch/>
        </p:blipFill>
        <p:spPr>
          <a:xfrm>
            <a:off x="304920" y="3821040"/>
            <a:ext cx="48006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                                                           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304920"/>
            <a:ext cx="8001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ntibiotic Resi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ibiotics –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kill bacteria with disea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natural selection, some bacter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tat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becom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istant (not affected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tibiotic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resistan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cteri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ultiply (asexually)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soon become the only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bacteria aroun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antibiotics must now be ma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pbs.org/wgbh/evolution/library/10/4/l_104_03.ht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4"/>
          <p:cNvGraphicFramePr/>
          <p:nvPr/>
        </p:nvGraphicFramePr>
        <p:xfrm>
          <a:off x="1600200" y="1447920"/>
          <a:ext cx="533412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447920"/>
                    <a:ext cx="53341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8"/>
          <p:cNvSpPr/>
          <p:nvPr/>
        </p:nvSpPr>
        <p:spPr>
          <a:xfrm>
            <a:off x="4572000" y="53352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Bacteria have mutation for resi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3200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Treated with Antibio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4723920" y="1600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0" y="480060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d Bacteria survive and pass on good mu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esson 14 Proving Darw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10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 Darwin’s ideas and why they were only gradually accep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cribe some of the evidence that was lack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 pages 84 &amp; 8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: # 2, 6,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Charles Darwi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lected data and observations to create hypothesis about evolu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sh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On the Origin of Speci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ntaining h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theory of evolu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CharlesDarwin"/>
          <p:cNvPicPr/>
          <p:nvPr/>
        </p:nvPicPr>
        <p:blipFill>
          <a:blip r:embed="rId1"/>
          <a:stretch/>
        </p:blipFill>
        <p:spPr>
          <a:xfrm>
            <a:off x="5335560" y="1752480"/>
            <a:ext cx="3808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C:\WINDOWS\Desktop\bio_ch15\bio_ch15_4290.jpg"/>
          <p:cNvPicPr/>
          <p:nvPr/>
        </p:nvPicPr>
        <p:blipFill>
          <a:blip r:embed="rId1"/>
          <a:stretch/>
        </p:blipFill>
        <p:spPr>
          <a:xfrm>
            <a:off x="1143000" y="609480"/>
            <a:ext cx="7799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ima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9" name="Picture 7" descr="&#13;Picture 1.png                                                  000A2B16_x0006_bunsen                         C167EDBD:"/>
          <p:cNvPicPr/>
          <p:nvPr/>
        </p:nvPicPr>
        <p:blipFill>
          <a:blip r:embed="rId1"/>
          <a:stretch/>
        </p:blipFill>
        <p:spPr>
          <a:xfrm>
            <a:off x="1143000" y="1523880"/>
            <a:ext cx="3505320" cy="240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&#13;Picture 2.png                                                  000A2B16_x0006_bunsen                         C167EDBD:"/>
          <p:cNvPicPr/>
          <p:nvPr/>
        </p:nvPicPr>
        <p:blipFill>
          <a:blip r:embed="rId2"/>
          <a:stretch/>
        </p:blipFill>
        <p:spPr>
          <a:xfrm>
            <a:off x="4876920" y="1447920"/>
            <a:ext cx="4267080" cy="2479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&#13;Picture 3.png                                                  000A2B16_x0006_bunsen                         C167EDBD:"/>
          <p:cNvPicPr/>
          <p:nvPr/>
        </p:nvPicPr>
        <p:blipFill>
          <a:blip r:embed="rId3"/>
          <a:stretch/>
        </p:blipFill>
        <p:spPr>
          <a:xfrm>
            <a:off x="1219320" y="4114800"/>
            <a:ext cx="320040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&#13;Picture 4.png                                                  000A2B16_x0006_bunsen                         C167EDBD:"/>
          <p:cNvPicPr/>
          <p:nvPr/>
        </p:nvPicPr>
        <p:blipFill>
          <a:blip r:embed="rId4"/>
          <a:stretch/>
        </p:blipFill>
        <p:spPr>
          <a:xfrm>
            <a:off x="4876920" y="4079880"/>
            <a:ext cx="38862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Who Survive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Natural Sele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those individuals who have favorable variations (from their genes) are able to survive and reproduce successfu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125046333_7123c38e73"/>
          <p:cNvPicPr/>
          <p:nvPr/>
        </p:nvPicPr>
        <p:blipFill>
          <a:blip r:embed="rId1"/>
          <a:stretch/>
        </p:blipFill>
        <p:spPr>
          <a:xfrm>
            <a:off x="4876920" y="3649680"/>
            <a:ext cx="4267080" cy="3208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Sonoran1"/>
          <p:cNvPicPr/>
          <p:nvPr/>
        </p:nvPicPr>
        <p:blipFill>
          <a:blip r:embed="rId2"/>
          <a:stretch/>
        </p:blipFill>
        <p:spPr>
          <a:xfrm>
            <a:off x="0" y="3718080"/>
            <a:ext cx="47242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5ffff"/>
                </a:solidFill>
                <a:uFillTx/>
                <a:latin typeface="Tahoma"/>
              </a:rPr>
              <a:t>Conditions for Natural Selec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Overproduc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– every species produces more individuals than will survi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ects, fish, dandel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SalticidInsectEggs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3657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23484866"/>
          <p:cNvPicPr/>
          <p:nvPr/>
        </p:nvPicPr>
        <p:blipFill>
          <a:blip r:embed="rId2"/>
          <a:stretch/>
        </p:blipFill>
        <p:spPr>
          <a:xfrm>
            <a:off x="4952880" y="3200400"/>
            <a:ext cx="3962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2.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Struggle for Surviva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individuals within a species will compete for resourc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Ex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nvironmental conditions: food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space, water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5" descr="BXP58614"/>
          <p:cNvPicPr/>
          <p:nvPr/>
        </p:nvPicPr>
        <p:blipFill>
          <a:blip r:embed="rId1"/>
          <a:stretch/>
        </p:blipFill>
        <p:spPr>
          <a:xfrm>
            <a:off x="5105520" y="2971800"/>
            <a:ext cx="3809880" cy="3886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AnimalBehavior2"/>
          <p:cNvPicPr/>
          <p:nvPr/>
        </p:nvPicPr>
        <p:blipFill>
          <a:blip r:embed="rId2"/>
          <a:stretch/>
        </p:blipFill>
        <p:spPr>
          <a:xfrm>
            <a:off x="0" y="3137040"/>
            <a:ext cx="464832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Tahoma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Adaptation (adaptive value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any genetic trait that helps an organism survive, compete, and reproduce better than oth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Ex: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Grasshoppers with longer le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ions with sharper tee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katydidleftside"/>
          <p:cNvPicPr/>
          <p:nvPr/>
        </p:nvPicPr>
        <p:blipFill>
          <a:blip r:embed="rId1"/>
          <a:stretch/>
        </p:blipFill>
        <p:spPr>
          <a:xfrm>
            <a:off x="0" y="3475080"/>
            <a:ext cx="5181480" cy="3382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horned_lizard_Navajo_camo"/>
          <p:cNvPicPr/>
          <p:nvPr/>
        </p:nvPicPr>
        <p:blipFill>
          <a:blip r:embed="rId2"/>
          <a:stretch/>
        </p:blipFill>
        <p:spPr>
          <a:xfrm>
            <a:off x="5105520" y="350532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20:20:05Z</dcterms:created>
  <dc:creator>mguido</dc:creator>
  <dc:description/>
  <dc:language>en-US</dc:language>
  <cp:lastModifiedBy>USUARIO</cp:lastModifiedBy>
  <dcterms:modified xsi:type="dcterms:W3CDTF">2012-10-24T20:16:33Z</dcterms:modified>
  <cp:revision>96</cp:revision>
  <dc:subject/>
  <dc:title>Evolution</dc:title>
</cp:coreProperties>
</file>